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5928-89FB-420A-8B64-0598ABF0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125B-A2B2-43DD-B17B-AEC8FD21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D081-8FFD-47D8-86F6-0B0EFFDA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9270-EC5E-49DD-BC71-8B0826FA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A277-44B4-4BE8-822A-3A515B85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2A86-8B2D-4114-BB14-3FC304E9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4C2C-A3A9-4359-8CA5-A448AE7A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110E-2B05-4FB7-BEF6-237F1FCC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0706-8571-463D-9FEA-39FFA948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507E-CDC6-4008-9ABB-07B1A01A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00B1-EC10-4A99-B2AD-5FB81B2C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D268-8E71-440A-9EBC-E8F06CE4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C2FD-B13C-4F9C-9ADB-A349D1CE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CCBF-3554-4714-9931-0FBF89E9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C83A-066F-41DC-AAA2-9BD6C520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8F4E-8CC1-437A-B726-22B01367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B9EE-C54D-44D7-B7EF-AE7AA779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D36FA-3EE0-4979-891A-4A099C5C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50DD-527B-4565-9FC1-DEC7A889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6D3F-2C77-42D3-92A4-1E542564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3DF5-18DE-4647-9DBE-4FC0F0B9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8B479-1E3A-4439-8695-F1FD41DF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FE3C-8481-4371-806D-6DB80A75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C543-5209-47FC-AA69-9EF7BD46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C2F5-B725-4B99-87BF-9F3947453C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E5D5-3E6B-4E03-AA23-40FE33393D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8128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Protocol Revision Subcommitte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ne 26,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NPRR 118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 – Section 14, Synchronization of Zonal Protocol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828800"/>
          <a:ext cx="8001000" cy="4057560"/>
        </p:xfrm>
        <a:graphic>
          <a:graphicData uri="http://schemas.openxmlformats.org/drawingml/2006/table">
            <a:tbl>
              <a:tblPr/>
              <a:tblGrid>
                <a:gridCol w="2667240"/>
                <a:gridCol w="677880"/>
                <a:gridCol w="465588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chronizes Zonal Protocol Section 14 with Nodal Protocol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etion of Nodal Protocol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NPRR 119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 – Resource Limit Calculato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09480" y="1828800"/>
          <a:ext cx="8001000" cy="4057560"/>
        </p:xfrm>
        <a:graphic>
          <a:graphicData uri="http://schemas.openxmlformats.org/drawingml/2006/table">
            <a:tbl>
              <a:tblPr/>
              <a:tblGrid>
                <a:gridCol w="2667240"/>
                <a:gridCol w="677880"/>
                <a:gridCol w="465588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anges the Low Dispatch Limit (LDL) calculation to ensure that the LDL and High Dispatch Limit (HDL) sent to SCED do not exceed the High Sustained Limit under any circumstanc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20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Corrections &amp; Clarifications for Real Time Settlement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828800"/>
          <a:ext cx="8229600" cy="40863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rrects and clarifies Real-Time Settlement formula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curate settlement formula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NPRR 122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 – Simplify Ancillary Services Settlement Formul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09480" y="1828800"/>
          <a:ext cx="8001000" cy="4213080"/>
        </p:xfrm>
        <a:graphic>
          <a:graphicData uri="http://schemas.openxmlformats.org/drawingml/2006/table">
            <a:tbl>
              <a:tblPr/>
              <a:tblGrid>
                <a:gridCol w="2667240"/>
                <a:gridCol w="677880"/>
                <a:gridCol w="46558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places A/S trades and self-supply in the settlement formulas with the self-arranged quantities; also includes clarifying language and editorial changes to variables and subscrip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leviates confusion regarding the intent of the settlement formulas and simplifies design and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23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Inadvertent Energy Account Revis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1828800"/>
          <a:ext cx="8229600" cy="42022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rrects the definition for an Inadvertent Energy Accoun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vides accurate terminology supporting market transparenc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NPRR 130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 – CRR Settlements Revenue Equaliz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8001000" cy="4057560"/>
        </p:xfrm>
        <a:graphic>
          <a:graphicData uri="http://schemas.openxmlformats.org/drawingml/2006/table">
            <a:tbl>
              <a:tblPr/>
              <a:tblGrid>
                <a:gridCol w="2667240"/>
                <a:gridCol w="677880"/>
                <a:gridCol w="4655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s an accounting provision to assure revenue neutrality in the DAM while refunding the proper funds later through the CRR Balancing Accoun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SO revenue equalization and credit stabilit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$50K-$100K impact to nodal budget; no change to implementati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R/NPRR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evision Requests Recommended for Approv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PRR 761 – Inadvertent Energy Account Revis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097 – Changes to Section 8, Performance Monitoring &amp; Complianc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07 – Nodal Emergency Interruptible Load Service (EILS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11 – Timelines for Response by ERCOT to TSP Reques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12 – Emergency Base Point Price Devia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17 – Resource Registration Clarifica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18 – Section 14, Synchronization of Zonal Protocol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19 – Resource Limit Calculato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20 – Corrections &amp; Clarifications for Real Time Settlemen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22 – Simplify Ancillary Services Settlement Formula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23 – Inadvertent Energy Account Revis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30 – CRR Settlements Revenue Equaliza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S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1120" y="1985760"/>
            <a:ext cx="792936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 PRR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1 NPRRs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61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Inadvertent Energy Account Revis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752480"/>
          <a:ext cx="8076960" cy="366408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rrects the definition for an Inadvertent Energy Accoun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vides accurate terminology supporting market transparen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gust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61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Inadvertent Energy Account Revis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097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Changes to Section 8, Performance Monitoring &amp; Complianc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828800"/>
          <a:ext cx="8229600" cy="41641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 for TP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forms Section 8 with TAC-approved EMS &amp; MMS business requirements and conceptual design documentation.  Incorporates TPTF input to ERCOT Staff question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urther defines Section 8 requiremen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$125K-$150K impact to nodal budget; no change to implementati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NPRR 107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 – Nodal Emergency Interruptible Load Service (EILS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1828800"/>
          <a:ext cx="8001000" cy="4057560"/>
        </p:xfrm>
        <a:graphic>
          <a:graphicData uri="http://schemas.openxmlformats.org/drawingml/2006/table">
            <a:tbl>
              <a:tblPr/>
              <a:tblGrid>
                <a:gridCol w="2667240"/>
                <a:gridCol w="677880"/>
                <a:gridCol w="4655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corporates EILS; includes EILS deployment methodology necessary to support SCED 5 minute deploymen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iance with PUCT Substantive Rul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less than $50K impact to nodal budget; no change to implementati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11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Timelines for Response by ERCOT to TSP Request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828800"/>
          <a:ext cx="8229600" cy="44467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creases the approval window for the 45-day timeline from 5 days to 15 days (comparable to Zonal Protocols); edits for internal consistenc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hance Protocol clarity and result in approval of more outages in the 45-day timeline, thereby providing more advanced market notific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NPRR 112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 – Emergency Base Point Price Revi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1828800"/>
          <a:ext cx="8001000" cy="4213080"/>
        </p:xfrm>
        <a:graphic>
          <a:graphicData uri="http://schemas.openxmlformats.org/drawingml/2006/table">
            <a:tbl>
              <a:tblPr/>
              <a:tblGrid>
                <a:gridCol w="2667240"/>
                <a:gridCol w="677880"/>
                <a:gridCol w="465588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manded from TAC.  Revision by TPTF comments assures that $/MWH value for the Emergency Base Point should never exceed the Mitigated Offer Cap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ablishes consistency in Energy Offer Curve extension methodolog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3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17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Resource Registration Clarific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828800"/>
          <a:ext cx="8229600" cy="47689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rifies Resource Entity data registry obligation, QSE Resource Parameter submission obligation for operational purposes, deletes QSE obligation to submit Private Use Network design/engineering data and places the obligation on Generation Entity with a Generation Resource located within a Private Use Network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rifies obligations for registering Resource data and submitting Resource Parame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Reliant</cp:lastModifiedBy>
  <dcterms:modified xsi:type="dcterms:W3CDTF">2008-06-24T11:21:10Z</dcterms:modified>
  <cp:revision>231</cp:revision>
  <dc:subject/>
  <dc:title>Protocol Revision Subcommittee</dc:title>
</cp:coreProperties>
</file>